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2B30-04F5-4EF9-AC58-A3AFC41BA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2552-E1A5-4F9A-A283-D6F5E2E2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0034-B913-4E15-B60F-2077D5E04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E9C9-A2C6-427D-9C58-C3D30A5A8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CC51-9C07-4397-966E-B6A4620A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39A3-CA5C-4F2A-B936-C76002863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0FC9-A6C7-4F08-BAF0-1A9B2561F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52A2-61AC-4998-A75C-2F9F11238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D60A-6050-4E66-B138-22AE65AE7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1954-DD1C-4603-93B6-9AA71B29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C396-8923-48FC-B5BC-8CE3AAE1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4657-A1CD-494B-99D0-FFF02F20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F377-8D38-47F6-AA7D-52486F143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65736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Владивостокский государственный университет экономики и сервиса</a:t>
            </a:r>
            <a:br>
              <a:rPr sz="2600"/>
            </a:b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Институт информатики инноваций и бизнес систем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Предмет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«Технологии Интернет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Руководитель: Сачко Максим Анатольевич, старший преподавател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48450-F04A-4CB5-97B9-0F7F95A3089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Основную роль в системе электронной почты играют программы трех типов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транспортные агенты (MTA - Mail Transport Agent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агенты доставки (MDA - Mail Delivery Agent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ользовательские агенты (MUA - Mail User Agen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56370-9C9D-4B97-BFEF-FFEF4CE55D5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26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Tahoma"/>
              </a:rPr>
              <a:t>анализ и преобразование адресов и заголовков почтовых сообщени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26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Tahoma"/>
              </a:rPr>
              <a:t>опрос DNS на предмет имени и адреса почтового сервера адресата сообщения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26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Tahoma"/>
              </a:rPr>
              <a:t>определение агента доставки для каждого сообщения и передача сообщения выбранному агенту доставки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26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Tahoma"/>
              </a:rPr>
              <a:t>управление очередью сообщений, отложенный и повторный вызов агентов доставки в случае невозможности немедленной доставки сообщения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26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Tahoma"/>
              </a:rPr>
              <a:t>возврат сообщений, которые по каким-либо причинам невозможно доставить по назначению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Функции транспортного аг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B26AF-6CAD-46BA-81E8-3C99660CEDE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разбор списков рассылки, пседонимов, переадресации (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форвардинг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реобразование адресов в формат другой почтовой системы, если MTA функционирует как шлюз между двумя почтовыми системами (например, между Internet Mail и Sprint Mail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реобразование имени почтового домена отправителя (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маскарад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установка служебных заголовков в сообщении, отражающих его маршрут и процесс обработ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Анализ и преобразование адрес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AE75-40CF-4EFE-9C61-138BD049EB7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ff"/>
                </a:solidFill>
                <a:latin typeface="Tahoma"/>
              </a:rPr>
              <a:t>local</a:t>
            </a:r>
            <a:r>
              <a:rPr b="0" lang="ru-RU" sz="2500" spc="-1" strike="noStrike">
                <a:solidFill>
                  <a:srgbClr val="3333ff"/>
                </a:solidFill>
                <a:latin typeface="Tahoma"/>
              </a:rPr>
              <a:t> - письмо направлено на почтовый ящик, находящийся на этом же компьютере; доставка производится, например, добавлением содержимого сообщения в определенный файл (</a:t>
            </a:r>
            <a:r>
              <a:rPr b="0" i="1" lang="ru-RU" sz="2500" spc="-1" strike="noStrike">
                <a:solidFill>
                  <a:srgbClr val="3333ff"/>
                </a:solidFill>
                <a:latin typeface="Tahoma"/>
              </a:rPr>
              <a:t>в Unix это файл /var/mail/почтовый_ящик</a:t>
            </a:r>
            <a:r>
              <a:rPr b="0" lang="ru-RU" sz="2500" spc="-1" strike="noStrike">
                <a:solidFill>
                  <a:srgbClr val="3333ff"/>
                </a:solidFill>
                <a:latin typeface="Tahoma"/>
              </a:rPr>
              <a:t>)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ff"/>
                </a:solidFill>
                <a:latin typeface="Tahoma"/>
              </a:rPr>
              <a:t>SMTP</a:t>
            </a:r>
            <a:r>
              <a:rPr b="0" lang="ru-RU" sz="2500" spc="-1" strike="noStrike">
                <a:solidFill>
                  <a:srgbClr val="3333ff"/>
                </a:solidFill>
                <a:latin typeface="Tahoma"/>
              </a:rPr>
              <a:t> - письмо направлено на почтовый ящик в другом почтовом домене; доставка производится путем соединения с транспортным агентом на удаленном сервере с помощью протокола SMTP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ff"/>
                </a:solidFill>
                <a:latin typeface="Tahoma"/>
              </a:rPr>
              <a:t>prog</a:t>
            </a:r>
            <a:r>
              <a:rPr b="0" lang="ru-RU" sz="2500" spc="-1" strike="noStrike">
                <a:solidFill>
                  <a:srgbClr val="3333ff"/>
                </a:solidFill>
                <a:latin typeface="Tahoma"/>
              </a:rPr>
              <a:t> - письмо должно быть обработано какой-либо программой; доставка производится вызовом этой программы, на вход которой подается содержимое письм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Агенты доста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8A18D-3BFB-49B7-B440-071DD14D554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олучение сообщений с почтового сервер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резентация, хранение, удаление и каталогизирование почтовых сообщени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создание нового сообщения и передача его транспортному агенту для дальнейшей обработки и достав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Функции пользовательского аг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A3BDB-0324-49B0-8B29-F1DBA074C26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В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ОС Unix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транспортным агентом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является программа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sendmail,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ставшая де-факто стандартом MTA. Кроме того, в программу sendmail входит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агент доставки SMTP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Локальный агент доставки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программа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mail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с ключом "-d"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В качестве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MUA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могут использоваться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mail, pine,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различные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MailTools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под X-Windows и другие програм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В качестве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POP-сервера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может быть использована программа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qpopp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2. Почтовые агенты в различных 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C79A5-D248-4316-AE0B-03952A73BFE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0" lang="en-US" sz="2600" spc="-1" strike="noStrike">
                <a:solidFill>
                  <a:srgbClr val="3333ff"/>
                </a:solidFill>
                <a:latin typeface="Tahoma"/>
              </a:rPr>
              <a:t>Почтовое сообщение состоит из заголовков и тела. В заголовках указываются адреса отправителя и получателя (получателей) и другая служебная информац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600" spc="-1" strike="noStrike">
                <a:solidFill>
                  <a:srgbClr val="3333ff"/>
                </a:solidFill>
                <a:latin typeface="Tahoma"/>
              </a:rPr>
              <a:t>Тело представляет собой 7-битный текст. Спецификация MIME позволяет пересылать в теле сообщения двоичные данные и создавать сложные сообщения, состоящие из нескольких частей с данными различных типов. При пересылке сообщения через SMTP создается конверт, состоящий из адресов отправителя и получателя, передаваемых в SMTP-сеанс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Структура email-сооб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14029-7C76-437E-8DDB-800165FD187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From: ivanov@a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Reply-To: real_ivanov@a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To: sidorov@vvsu.ru, "Petr Petrov" &lt;petrov@vvsu.ru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Сс: "Jonh Smith" &lt;john@smith.a.com&gt;, &lt;sidorenko@c.ru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Bcc: "Fox Mulder" &lt;mulder@fbi.gov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Subject: Happy New Yea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Date: Sat, 15 Jan 2000 17:25:32 +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Message-ID: &lt;3.0.6.32.200623.007badf0@mail.a.ru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Received: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Заголовки почтового сооб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B1220-6AF9-4023-9C20-6D41EA455EF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MIM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(Multipurpose Internet Mail Extensions)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спецификации, определяющие дополнения в формате почтовых сообщений дл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ересылки восьмибитных текстов и полностью двоичных данны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оддержки сложных сообщений, состоящих из нескольких разделов (возможно, содержащих данные разных типов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Формирование и разбор сообщений в соответствии со спецификациями MIME производится пользовательскими почтовыми агент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M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994A7-90E9-43E7-A63A-F6779AFF086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HELO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host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MAIL FROM: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email_адрес_от_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RCPT TO: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email_адрес_к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VRFY</a:t>
            </a:r>
            <a:r>
              <a:rPr b="0" i="1" lang="ru-RU" sz="1800" spc="-1" strike="noStrike" baseline="-257000">
                <a:solidFill>
                  <a:srgbClr val="fafbfc"/>
                </a:solidFill>
                <a:latin typeface="Arial"/>
              </a:rPr>
              <a:t> email_адр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" spc="-1" strike="noStrike">
                <a:solidFill>
                  <a:srgbClr val="3333ff"/>
                </a:solidFill>
                <a:latin typeface="Tahoma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EXPN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email_add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R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Q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Основные команды протокола SM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79840" y="331488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1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ahoma"/>
              </a:rPr>
              <a:t>Тема</a:t>
            </a:r>
            <a:r>
              <a:rPr b="1" lang="ru-RU" sz="41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n-US" sz="4100" spc="-1" strike="noStrike">
                <a:solidFill>
                  <a:srgbClr val="3333ff"/>
                </a:solidFill>
                <a:latin typeface="Tahoma"/>
              </a:rPr>
              <a:t>4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63640" y="2421000"/>
            <a:ext cx="5869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ahoma"/>
              </a:rPr>
              <a:t>Электронная поч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0FB54-ACA8-4BD1-8C2F-8A95A40636E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USER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 имя_пользова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PASS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 пар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ST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LIST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RETR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" spc="-1" strike="noStrike">
                <a:solidFill>
                  <a:srgbClr val="3333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DELE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TOP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n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R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N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Q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Основные команды протокола POP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79840" y="331488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FEBD2-00AC-4967-9FE5-90532B9DD6B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Программа sendmail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это транспортный почтовый агент (MTA) плюс агент доставки SMTP. Sendmail фактически является стандартным MTA для Unix и поставляется вместе с операционной систе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Программа sendm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79840" y="331488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664E4-26F5-47B6-94DF-A1FB6A36B6E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Sendmail состоит из программы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/usr/lib/sendmail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, конфигурационного файла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/etc/mail/sendmail.cf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, файла псевдонимов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/etc/mail/aliases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и других вспомогательных файлов, а также документов справочника man. Программа использует каталоги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/etc/mail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для хранения конфигурационного и вспомогательных файлов и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/var/spool/mqueu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для очереди сообщений. Путь к каталогу очереди сообщений может варьироваться от системы к систе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79840" y="331488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8470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ff"/>
                </a:solidFill>
                <a:latin typeface="Tahoma"/>
              </a:rPr>
              <a:t>Чем отличаются почтовые агенты: транспортный, доставки, пользовательски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ff"/>
                </a:solidFill>
                <a:latin typeface="Tahoma"/>
              </a:rPr>
              <a:t>В чем разница между протоколами POP и SMT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ff"/>
                </a:solidFill>
                <a:latin typeface="Tahoma"/>
              </a:rPr>
              <a:t>В чем состоят функции почтового сервер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ff"/>
                </a:solidFill>
                <a:latin typeface="Tahoma"/>
              </a:rPr>
              <a:t>Назовите составные части сложного почтового сообщения (текст с двумя файлами-приложениями)? Укажите ключевые для понимания формата сообщения заголовки и их зна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ff"/>
                </a:solidFill>
                <a:latin typeface="Tahoma"/>
              </a:rPr>
              <a:t>Что такое MI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ff"/>
                </a:solidFill>
                <a:latin typeface="Tahoma"/>
              </a:rPr>
              <a:t>Опишите функции программы sendmail. Обоснуйте необходимость наличия сложного конфигурационного файла у этой програм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ff"/>
                </a:solidFill>
                <a:latin typeface="Tahoma"/>
              </a:rPr>
              <a:t>Сравните sendmail с другими транспортными агент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ff"/>
                </a:solidFill>
                <a:latin typeface="Tahoma"/>
              </a:rPr>
              <a:t>Опишите, какие возможности имеет sendmail для ограничения (фильтрации) входящих и исходящих сообщений; какие критерии при этом использую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ff"/>
                </a:solidFill>
                <a:latin typeface="Tahoma"/>
              </a:rPr>
              <a:t>Что такое маскарадинг? Приведите ситуации, в которых он может понадоби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Arial"/>
              </a:rPr>
              <a:t>Вопросы для самопровер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66ff"/>
                </a:solidFill>
                <a:latin typeface="Tahoma"/>
              </a:rPr>
              <a:t>Рекомендуемая литератур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, Петренко С. Технологии защиты информации в Интернете. Специальный справочник. – СПб: "Питер"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. Хант. Персональные компьютеры в сетях TCP/IP: Руководство администратора сети/ Пер. с англ. – СПб.: ЗАО "ЭлектроникаБизнесИнформатика", Киев: "BHV",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2003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UNIX для системных администраторов: Энциклопедия пользователя/ Пер.с англ. – Киев: ДиаСофт, 200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B.Costales, E.Alman. Sendmail. – O’Reily and Associates, In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31734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Tahoma"/>
              </a:rPr>
              <a:t>Использование материалов презен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51228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ff"/>
                </a:solidFill>
                <a:latin typeface="Tahoma"/>
              </a:rPr>
              <a:t>Содержание: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1520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1) Организация службы электронной почты в Интер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2) Почтовые агенты в различных 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3) Структура email-сооб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4) Основные команды протокола SMTP</a:t>
            </a: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и </a:t>
            </a: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P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5) Программа sendmail: ее функции и составные ч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120DF-D587-4A8B-83CB-5CF3290DCCE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Служба электронной почты состоит из сети почтовых серверов, обслуживающих определенные доменные имена D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На серверах сортируются, обрабатываются и хранятся в ожидании получателя почтовые сообщ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Серверы пересылают сообщения между собой через Интернет по протоколу SMT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Конечные пользователи работают либо непосредственно на серверах, либо чаще всего - за отдельными компьютер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Основная концеп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07D04-2201-4B6B-85B3-532D9A19919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Работа электронной почты организуется путем взаимодействия агентов трех типов: транспортных, пользовательских и агентов достав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Tahoma"/>
              </a:rPr>
              <a:t>Транспортные агенты</a:t>
            </a: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 выполняют роль центров по обработке и маршрутизации пис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Tahoma"/>
              </a:rPr>
              <a:t>Агенты доставки</a:t>
            </a: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 работают в связке с траспортными агентами и осуществляют доставку и пересылку сообщений тем или иным специфическим способ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Tahoma"/>
              </a:rPr>
              <a:t>Пользовательские агенты</a:t>
            </a: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 взаимодействуют непосредственно с человек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81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ahoma"/>
              </a:rPr>
              <a:t>1</a:t>
            </a:r>
            <a:r>
              <a:rPr b="1" lang="ru-RU" sz="2400" spc="-1" strike="noStrike">
                <a:solidFill>
                  <a:srgbClr val="3333ff"/>
                </a:solidFill>
                <a:latin typeface="Tahoma"/>
              </a:rPr>
              <a:t>. Организация службы электронной почты в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AEF4A-91AD-4C7A-8741-EC74052D7AF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Транспортный агент</a:t>
            </a: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 (MTA)</a:t>
            </a:r>
            <a:r>
              <a:rPr b="0" lang="en-US" sz="2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- программа, осуществляющая маршрутизацию почтовых сообщений, то есть анализ и преобразование заголовков письма и выбор и вызов нужного агента доставк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ff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Агент доставки</a:t>
            </a: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 (MDA)</a:t>
            </a:r>
            <a:r>
              <a:rPr b="0" lang="en-US" sz="2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- программа, осуществляющая доставку или пересылку почтового сообщения тем или иным специфическим способом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ff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Пользовательский агент</a:t>
            </a: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 (MUA)</a:t>
            </a:r>
            <a:r>
              <a:rPr b="0" lang="en-US" sz="2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- программа, предоставляющая конечному пользователю интерфейс для работы с почтовыми сообщениям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Ключевые пон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FCDAA-D1BD-4368-A500-1AE101724AB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Почтовый домен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- доменное имя, находящееся в правой части адреса электронной поч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Почтовый ящик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- левая часть адреса электронной почты, а также совокупность методов доставки и хранения почтовых сообщений внутри данного почтового доме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Локальный адрес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- адрес электронной почты, находящийся в одном из почтовых доменов, обслуживаемых данным транспортным аген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Ключевые пон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2DB64-22B3-4A49-85B3-085E19A13DB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SMTP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- сетевой протокол прикладного уровня, предназначенный для пересылки почтового сообщения транспортному агент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POP-3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- сетевой протокол прикладного уровня, предназначенный для удаленного доступа пользовательского агента к почтовому ящи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IMAP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- сетевой протокол прикладного уровня, предназначенный для удаленного доступа пользовательского агента к почтовому ящику; по сравнению с POP-3 предлагает расширенный набор услуг для конечного пользовате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Протоко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F5A62-5AEF-48F5-A298-B0CEDA9D763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8920" y="94464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Организация и функционирование службы электронной поч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763640" y="1052640"/>
            <a:ext cx="5437440" cy="54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1519-sachko</cp:lastModifiedBy>
  <dcterms:modified xsi:type="dcterms:W3CDTF">2009-01-13T03:27:56Z</dcterms:modified>
  <cp:revision>238</cp:revision>
  <dc:subject/>
  <dc:title>Lecture Template </dc:title>
</cp:coreProperties>
</file>